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5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6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7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12EFD-F9C3-466B-8660-8CF80BAE04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276CE-9A57-43A8-A224-0E709EBB34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245AB-B6CE-4F51-A03F-7A9B8292C7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1D95B-D18A-40A1-AD01-8F3090AF13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35FB4-6A03-4589-8CD0-0B2AD74F7D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AAED-31EE-4808-AA14-17655F6B1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E156-F4C6-44E6-A023-30DB17C68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8DE4-AC72-433F-999C-B58631429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62CB-CC4C-40C7-B596-D060230A2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F75ABF-47E6-4763-9CEF-9C8EBB084D8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7462C6-5C59-4AFE-8693-351ECDF4C7E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8077F1-B168-454B-A078-055B43DFBF1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220C70-FAF1-4C44-94AD-08561F83B1A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C97EDA-591C-45D0-9CC2-EDCA935599C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7567E4-9811-4F77-AF36-808DF93280B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F8EFCF-BBFD-4BAB-AA99-093D7980A66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B4F0-DF94-4CBB-ADDE-372E62517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A98F40-B47F-4BBF-A56F-12A3015C42C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351ACA-7C88-4D86-84A8-457CF4823E3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571A71-8604-4E66-A828-665CEDDD236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12BF2A-368A-4F67-B531-1D67AD0334F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2F0924-DDA3-46A8-BF7A-98FA4B0B758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AC2F-47BC-4C03-9BDF-C2A713A6F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65B2-F82B-4538-9637-19BA142FD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2B32-F171-4E15-95E9-DE7D8BEAF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4C7F-875B-4775-8BD4-E0C2FA121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A22D-385B-43B5-9291-1BAF2B18B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F0B4-4159-4879-844F-2D979E822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58A6-0160-4287-9DFB-AC2665B41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2CA11-FAFD-434C-93D6-2C8B3A78AA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39ACC6A8-0E2C-4A72-8435-970F5F95439F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9" name="Rectangle 13"/>
          <p:cNvSpPr/>
          <p:nvPr/>
        </p:nvSpPr>
        <p:spPr>
          <a:xfrm>
            <a:off x="755640" y="6391440"/>
            <a:ext cx="619272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Rapid Response Te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8776A03A-FB51-4200-9C64-180E01D79804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3"/>
          <p:cNvSpPr/>
          <p:nvPr/>
        </p:nvSpPr>
        <p:spPr>
          <a:xfrm>
            <a:off x="755640" y="6391440"/>
            <a:ext cx="619272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Rapid Response Te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82091-B5FB-49FD-BEEC-38E1A1B51B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1440" y="2421000"/>
            <a:ext cx="9141120" cy="167328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Verdana"/>
              </a:rPr>
              <a:t>Rapid Response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Arial"/>
              </a:rPr>
              <a:t>General objectiv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8280" y="1844640"/>
            <a:ext cx="82170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presentation describes the composition and role of functional, technical multi-disciplinary teams of experts (Rapid Response Teams) that should be deployed in case of emergenci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6840" y="1341360"/>
            <a:ext cx="814716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the end of the session you will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the importance of having fully operational Rapid Response Teams (RRTs) able to act immediately once a suspicious case is repor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composition and terms of reference of the RR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the activities  of the RR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8360" y="76464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RT is a group of experienced experts that are on stand-by and can reach any part of the country within 24 hours. Their actions will help to contain/stop an outbreak early on. They will survey the first case(s), provide health care in a central facility, engage with the community and carry out infection, prevention and control measures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Composition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24000" y="1236240"/>
            <a:ext cx="4032000" cy="35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Arial"/>
                <a:ea typeface="Arial"/>
              </a:rPr>
              <a:t>Natio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clinic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epidemiolog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aboratory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social mob/anthrop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ogistic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psychosocial support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data 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7 burial staff (1 burial te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media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Content Placeholder 2"/>
          <p:cNvSpPr/>
          <p:nvPr/>
        </p:nvSpPr>
        <p:spPr>
          <a:xfrm>
            <a:off x="4356000" y="1236600"/>
            <a:ext cx="4537080" cy="32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Arial"/>
                <a:ea typeface="Arial"/>
              </a:rPr>
              <a:t>Sub-Natio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clinic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epidemiolog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aboratory technic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social mob/anthrop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ogistic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1 social worker, psychiatric nur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1 data cle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7 burial staff (1 burial te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1 local media per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Content Placeholder 2"/>
          <p:cNvSpPr/>
          <p:nvPr/>
        </p:nvSpPr>
        <p:spPr>
          <a:xfrm>
            <a:off x="611280" y="5157720"/>
            <a:ext cx="8208720" cy="8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2060"/>
                </a:solidFill>
                <a:latin typeface="Arial"/>
              </a:rPr>
              <a:t>The number of subnational teams depends on the level of risk,</a:t>
            </a:r>
            <a:br>
              <a:rPr sz="2000"/>
            </a:br>
            <a:r>
              <a:rPr b="0" i="1" lang="en-US" sz="2000" spc="-1" strike="noStrike">
                <a:solidFill>
                  <a:srgbClr val="002060"/>
                </a:solidFill>
                <a:latin typeface="Arial"/>
              </a:rPr>
              <a:t>human resource availability and geographic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Set up one at National level and at least one at subna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Train medical staff on WHO-AFRO module applied in Liberia, including mock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Mapping of health facilities and identify potential ETC 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Train Community volunteers and Epis in subnational RRT (24h hotli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Financial support from ET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Simulation exerci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Role 1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50920" y="1052640"/>
            <a:ext cx="85183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Role (2)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"/>
          <p:cNvSpPr/>
          <p:nvPr/>
        </p:nvSpPr>
        <p:spPr>
          <a:xfrm>
            <a:off x="457200" y="1052640"/>
            <a:ext cx="85345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e appropriate strategies and control measures including risk communications activ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e detailed investigation repor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ibute to the final evaluation of the outbreak respon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stigate rumors, reported outbreaks, and other public health emerg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ordinate rapid response actions w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ners and other ag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te the implementation of the propo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 measures including capacity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Role (3)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5564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W" sz="5400" spc="-1" strike="noStrike">
                <a:solidFill>
                  <a:srgbClr val="0000ff"/>
                </a:solidFill>
                <a:latin typeface="Arial"/>
              </a:rPr>
              <a:t>Thank yo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3:27:53Z</dcterms:modified>
  <cp:revision>145</cp:revision>
  <dc:subject/>
  <dc:title>DPC Training and Technical Update</dc:title>
</cp:coreProperties>
</file>